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98A-9601-49E1-AC1A-07C5074E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0E1-6B5C-4846-87EE-0DDFB2AF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6B7-EBC8-46A3-A8F7-0E2F8675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2DF-FDBC-4504-8318-17224674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0745-899D-4885-AA09-4558A0F2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ED07-D60D-4FA6-8A39-2B30E15C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E839-1238-4FF3-B2E8-E337C78B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3A95-4392-48A2-A50A-2DB2CACF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1A8A-882E-43FA-A928-07D260BE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ED78-1A25-48F3-936B-7FE736A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D704-D366-47E6-B74E-ACCDB80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E81-84E3-48A5-A314-17EA199E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FDB7-5AE9-46E7-9283-E129E10A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4B4F-F86E-442F-ABA4-5EB4AF62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D47F-B418-4776-AC3F-53896ADB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35CE-A8C8-41D2-B3D9-8143B559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F972-28BF-4E72-A22B-9A239CC9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46F-8A6E-401A-8097-C5B7F184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F42-D957-4D35-93A5-79E70215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A51-5FFB-4225-8372-0EB7CD19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9F6-8AFF-4030-B50C-B04091EC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181-0035-49F7-A549-1479E356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EF3-CBE5-4390-BE55-A7DC353C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D84-3A6C-4D1D-8BDA-8828A0A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BD20-AAB9-4940-AEEA-BFD897C4DC3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A65F-54E7-4AC4-A6B2-5192E5A6153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rnano.org/whati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195560"/>
            <a:ext cx="7864560" cy="2060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Technological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throughout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1" descr=""/>
          <p:cNvPicPr/>
          <p:nvPr/>
        </p:nvPicPr>
        <p:blipFill>
          <a:blip r:embed="rId1"/>
          <a:stretch/>
        </p:blipFill>
        <p:spPr>
          <a:xfrm>
            <a:off x="-158760" y="-6480"/>
            <a:ext cx="9309240" cy="6870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 rot="937800">
            <a:off x="5375880" y="2571840"/>
            <a:ext cx="51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nprior"/>
              </a:rPr>
              <a:t>Nano/bio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2003--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extBox 4" descr=""/>
          <p:cNvPicPr/>
          <p:nvPr/>
        </p:nvPicPr>
        <p:blipFill>
          <a:blip r:embed="rId2"/>
          <a:stretch/>
        </p:blipFill>
        <p:spPr>
          <a:xfrm>
            <a:off x="1079640" y="244440"/>
            <a:ext cx="730872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 1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9326520" cy="6645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23880" y="2590920"/>
            <a:ext cx="7086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individual instruction, limited resources, schooled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Oral and Ges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conom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production and consumption of food, hunting &amp; gathering, families self-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Extended; families tend to live on same la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astes &amp; classes, authoritarian &amp; birth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duc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Energy from sun, wind &amp; water  “Living Batteries”, “energy slaves”; forest, rivers, people and animals could be replac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iagram 1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809280" cy="687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2971800" y="2895480"/>
            <a:ext cx="6172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Econom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: mass production of food, trade, stores, corporations (1907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: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Nuclear (2 parent-home), extended families distan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Educa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: mass education, factory/assembly line focuses: rote &amp; repetitive work, punctuality, obe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Politics: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risis &amp; strikes, coup d'états,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Production: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actories, assembly lines, refrigerator in kitchens, vitamins(increased life expectanc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/Technology: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ransportation, tractors, post office (1837), telephone, typewriters, newspapers, mov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iagram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0180800" cy="6870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2514600" y="274320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conomy: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oil and gas production (foreign), money exchange rates, global industries (trade &amp; tra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2 working parent families, single-parent families, grand-parent /grand-child fami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ducation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computer labs, online courses (virtual schools), LCD projectors, CD,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olitics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capitalism, socialism, communism, world governments: UN,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roduction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increased flights, cars &amp; busses, space exploration, drug &amp;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/Technology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computers/laptops, internet, cell phones, webcams, instant 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Diagram 1" descr=""/>
          <p:cNvPicPr/>
          <p:nvPr/>
        </p:nvPicPr>
        <p:blipFill>
          <a:blip r:embed="rId1"/>
          <a:stretch/>
        </p:blipFill>
        <p:spPr>
          <a:xfrm>
            <a:off x="-49320" y="420840"/>
            <a:ext cx="9352080" cy="6473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2743200" y="22860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ext wave will be what Dr. Thornburg &amp; Dr. Dede both predict. It will be a wave of creativity found through new innovative technologies; nano &amp; biotechnologies.  “It will offer better built, longer lasting, cleaner, safer, and smarter products for the home, for communications, for medicine, for transportation, for agriculture, and for industry in general.”  --Center for Responsible Nano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gram 1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9156960" cy="690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C:\Users\Gina\AppData\Local\Microsoft\Windows\Temporary Internet Files\Content.IE5\MQB3RDI1\MCj01983040000[1].wmf"/>
          <p:cNvPicPr/>
          <p:nvPr/>
        </p:nvPicPr>
        <p:blipFill>
          <a:blip r:embed="rId2"/>
          <a:stretch/>
        </p:blipFill>
        <p:spPr>
          <a:xfrm>
            <a:off x="152280" y="2057400"/>
            <a:ext cx="175284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0" y="41148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sts in temples taught religion &amp; principles i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H="1" flipV="1">
            <a:off x="7238520" y="1981080"/>
            <a:ext cx="685800" cy="137160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C:\Users\Gina\AppData\Local\Microsoft\Windows\Temporary Internet Files\Content.IE5\INU31KSM\MCj02979850000[1].wmf"/>
          <p:cNvPicPr/>
          <p:nvPr/>
        </p:nvPicPr>
        <p:blipFill>
          <a:blip r:embed="rId3"/>
          <a:stretch/>
        </p:blipFill>
        <p:spPr>
          <a:xfrm>
            <a:off x="3809880" y="3581280"/>
            <a:ext cx="1670040" cy="1497240"/>
          </a:xfrm>
          <a:prstGeom prst="rect">
            <a:avLst/>
          </a:prstGeom>
          <a:ln w="0">
            <a:noFill/>
          </a:ln>
        </p:spPr>
      </p:pic>
      <p:sp>
        <p:nvSpPr>
          <p:cNvPr id="113" name="Line 3"/>
          <p:cNvSpPr/>
          <p:nvPr/>
        </p:nvSpPr>
        <p:spPr>
          <a:xfrm>
            <a:off x="4419000" y="3352680"/>
            <a:ext cx="75960" cy="3049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Users\Gina\AppData\Local\Microsoft\Windows\Temporary Internet Files\Content.IE5\0WDKXMXX\MCj04125660000[1].wmf"/>
          <p:cNvPicPr/>
          <p:nvPr/>
        </p:nvPicPr>
        <p:blipFill>
          <a:blip r:embed="rId4"/>
          <a:stretch/>
        </p:blipFill>
        <p:spPr>
          <a:xfrm>
            <a:off x="2590920" y="152280"/>
            <a:ext cx="1981080" cy="1889280"/>
          </a:xfrm>
          <a:prstGeom prst="rect">
            <a:avLst/>
          </a:prstGeom>
          <a:ln w="0">
            <a:noFill/>
          </a:ln>
        </p:spPr>
      </p:pic>
      <p:sp>
        <p:nvSpPr>
          <p:cNvPr id="115" name="Line 3"/>
          <p:cNvSpPr/>
          <p:nvPr/>
        </p:nvSpPr>
        <p:spPr>
          <a:xfrm>
            <a:off x="4572000" y="838080"/>
            <a:ext cx="1371600" cy="45720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3276720" y="5105520"/>
            <a:ext cx="45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ies, mass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04920" y="3808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 communication: 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Gina\AppData\Local\Microsoft\Windows\Temporary Internet Files\Content.IE5\MQB3RDI1\MCj03324440000[1].wmf"/>
          <p:cNvPicPr/>
          <p:nvPr/>
        </p:nvPicPr>
        <p:blipFill>
          <a:blip r:embed="rId5"/>
          <a:stretch/>
        </p:blipFill>
        <p:spPr>
          <a:xfrm>
            <a:off x="6781680" y="3352680"/>
            <a:ext cx="2057400" cy="1844640"/>
          </a:xfrm>
          <a:prstGeom prst="rect">
            <a:avLst/>
          </a:prstGeom>
          <a:ln w="0">
            <a:noFill/>
          </a:ln>
        </p:spPr>
      </p:pic>
      <p:sp>
        <p:nvSpPr>
          <p:cNvPr id="119" name="Line 3"/>
          <p:cNvSpPr/>
          <p:nvPr/>
        </p:nvSpPr>
        <p:spPr>
          <a:xfrm flipH="1" flipV="1">
            <a:off x="1676160" y="3581280"/>
            <a:ext cx="75960" cy="5335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6248520" y="5334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genome sequence was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nter for Responsible Nanotechnology (CRN).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crnano.org/whatis.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de, C. (Speaker). (2008). The Next Wave, Part 2. Laureate Education, In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rnburg, D. (Speaker). (2008). The Next Wave, Part 1. Laureate Education, In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ffler, Alvin. (1980). The Third Wave. New York: Bantam Books Cambridge University P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ight Jr.,B.D. (2009, March 8). Assistant Regional Manager. Pfizer Pharmaceuticals. (intervie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6:52:53Z</dcterms:created>
  <dc:creator>Gina</dc:creator>
  <dc:description/>
  <dc:language>en-US</dc:language>
  <cp:lastModifiedBy>Gina</cp:lastModifiedBy>
  <dcterms:modified xsi:type="dcterms:W3CDTF">2009-04-01T00:45:31Z</dcterms:modified>
  <cp:revision>127</cp:revision>
  <dc:subject/>
  <dc:title>Strand One: Toffler’s Three Waves</dc:title>
</cp:coreProperties>
</file>